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F63E-8194-46A9-B080-800FDEC88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84BF-7DC9-4563-8147-D76DA46B3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81A3-324B-42B5-BCFB-A8D8A641F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B69E-8C7E-4005-BC14-50C3CE025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3D5F-9661-4412-A158-2A49DE46D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283E-0168-483D-BD3A-1E9447967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3F6E-9FE7-4B26-808C-52003398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BC39-B520-4E4D-BD46-B0945769E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36CE-8599-4234-84E2-E324CFE7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B112-89C3-4B1E-88B2-B2D96351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D7ED-967F-4434-AE17-7F72C273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592F-8615-4EE9-B314-5FB414D7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EDC3-AB53-431B-829B-2E2B451D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7A87-20BB-4590-BB54-BDCC316C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8874-23F1-4AEE-9562-851FA35A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6CA4-E794-44E7-9220-69405C29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CCB6-C5EC-4983-A3D6-6AAFF525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DTech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2D48-0435-42F1-B83A-FC4566ADF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UL LUCRĂ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684360" y="112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ul de studii: Ingineria Sistemelor Electroenerge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2"/>
          <p:cNvSpPr/>
          <p:nvPr/>
        </p:nvSpPr>
        <p:spPr>
          <a:xfrm>
            <a:off x="250920" y="499284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COORDONATOR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ȘTIINȚIFIC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ABSOLVE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rof. dr. ing. Dan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Călin PETER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Liviu NEAM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rcRect l="9050" t="35994" r="1962" b="44400"/>
          <a:stretch/>
        </p:blipFill>
        <p:spPr>
          <a:xfrm>
            <a:off x="428760" y="96840"/>
            <a:ext cx="81374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55640" y="1052640"/>
            <a:ext cx="770400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Limitaţi numărul de cuvinte / slide la cel mult 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ăsaţi un spaţiu între paragrafe, idei, etc, de cel puţin un râ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Toate caracterele, inclusiv cele din grafice, tabele, ecuaţii să fie de minim 18 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Graficele, imaginile, pozele să fie clare, cu linii, simboluri, notaţii îngroşate, clar vizibile, care să contrasteze net cu fundal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55640" y="1052280"/>
            <a:ext cx="7704000" cy="462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Nu abuzaţi de slide-uri, imagini, text, etc. Puneţi strict ceea ce este relevant şi util în prezenta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Tabelele sunt greu de înţeles, utilizaţi în schimb reprezentări grafice tip “column” sau “pie”, respectiv “scatter” pentru funcţi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O imagine fa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cât 1000 de cuvi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Nu utilizaţi slide show automat, nu utilizaţi animaţii şi tranziţii (acestea nu merg la prezentări în inginerie unde rigoarea şi logica sunt esenţiale şi nu ambalajul conteaz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55640" y="1052280"/>
            <a:ext cx="7704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rezentarea durează aproximativ 15 minute, rămânând 5 minute pentru întrebări ale participanţil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artea prezentării, ilustrată de un slide, durează între 1 minut şi 2 minute, deci o prezentare cu 10 – 1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max. 20)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slide-uri este ideal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Un slide, care în cca. 10 – 15 secunde, nu poate fi  clar înţeles, este prea încărc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Orice imagine, text, ... inutil, îng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unează prezentarea şi devine subiect al întrebărilor din sal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5640" y="1052280"/>
            <a:ext cx="7704000" cy="468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Nu prezentaţi elemente cunoscute de toată lumea (teorie, poveşti, bla, bla, bla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Contează CONTRIBUŢIA PROPRI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rezentarea şi ilustrarea trebuie să mergă mână în mână şi nu defazate. Nu citiţi de pe slide-uri, vorbiţi liber despre ele (ajutaţi de e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Atenție la ortografie, morfologie și sintaxă, exprimarea să fie cât mai corectă, de un nivel științific corespunză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ul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mim pentru aten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19:13Z</dcterms:created>
  <dc:creator>pc</dc:creator>
  <dc:description/>
  <dc:language>en-US</dc:language>
  <cp:lastModifiedBy>Liviu Ioan Neamt</cp:lastModifiedBy>
  <dcterms:modified xsi:type="dcterms:W3CDTF">2025-01-13T12:27:39Z</dcterms:modified>
  <cp:revision>26</cp:revision>
  <dc:subject/>
  <dc:title>SESIUNEA ANUALĂ  DE COMUNICĂRI ŞTIINŢIFICE A STUDENŢILOR NORDTech 2012</dc:title>
</cp:coreProperties>
</file>